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B45-1379-4F5C-98DD-1CAD046D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AD3-195B-4847-B399-17907893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7A8-3607-411B-8203-3DA592C4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A55-670D-46FE-AD2C-AD90324D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516-83F2-4DA6-9DD2-D8937F3E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136-7199-4994-977C-DCCDC1D7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692-8248-4DF6-9B18-F7548CFF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28B-73A0-451D-B56C-DB8A372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FE9-20E4-4C2F-A5A3-F0902C4A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6D93-1BEE-4546-B713-CDFE06E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17E-89EE-4639-8EC1-20A3AA0B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72F-E566-4C0C-890C-8887D84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77CE-3D87-4A46-A42F-366F6E9DD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sbe.state.il.us/ILS/science/standards.htm" TargetMode="External"/><Relationship Id="rId2" Type="http://schemas.openxmlformats.org/officeDocument/2006/relationships/hyperlink" Target="http://www.isbe.state.il.us/ILS/science/capd.htm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Teaching Biology at the Appropriate Cognitive Level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loom’s Taxonomy Verb Sit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-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Things to consider…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Learn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Cognitive Developmen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Cognitive Think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Illinois Learning Standard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11, 12, &amp;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isbe.state.il.us/ILS/science/standard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pecific to the age level/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isbe.state.il.us/ILS/science/capd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185604"/>
          <p:cNvPicPr/>
          <p:nvPr/>
        </p:nvPicPr>
        <p:blipFill>
          <a:blip r:embed="rId3"/>
          <a:stretch/>
        </p:blipFill>
        <p:spPr>
          <a:xfrm>
            <a:off x="7772400" y="5257800"/>
            <a:ext cx="9223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Piaget’s Theory of Cognitive Development 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rete Operational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 is demonstrated through logical and systematic manipulation of symbols related to concrete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s 7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Operational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 is demonstrated through the logical use of symbols related to abstrac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ce &amp; 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gnitive Developmen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1" name="Picture 4" descr="piagetal"/>
          <p:cNvPicPr/>
          <p:nvPr/>
        </p:nvPicPr>
        <p:blipFill>
          <a:blip r:embed="rId1"/>
          <a:stretch/>
        </p:blipFill>
        <p:spPr>
          <a:xfrm>
            <a:off x="1066680" y="1295280"/>
            <a:ext cx="6553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gnitive Development Stage Breakdown of 14 year old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85604"/>
          <p:cNvPicPr/>
          <p:nvPr/>
        </p:nvPicPr>
        <p:blipFill>
          <a:blip r:embed="rId2"/>
          <a:stretch/>
        </p:blipFill>
        <p:spPr>
          <a:xfrm>
            <a:off x="7772400" y="5257800"/>
            <a:ext cx="9223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gnitive Thinking Level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6" name="Picture 5" descr="bloom.gif (3876 bytes)"/>
          <p:cNvPicPr/>
          <p:nvPr/>
        </p:nvPicPr>
        <p:blipFill>
          <a:blip r:embed="rId1"/>
          <a:stretch/>
        </p:blipFill>
        <p:spPr>
          <a:xfrm>
            <a:off x="1905120" y="2362320"/>
            <a:ext cx="5105160" cy="3655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590920" y="1752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- Remembering previously learn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on/Understanding – Grasping the meaning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– Applying knowledge to actual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loom’s Taxonomy, cont’d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- Breaking down objects or ideas into simpler parts and seeing how the parts relate and are orga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s - Rearranging component ideas into a new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 Making judgments based on internal evidence or external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j0185604"/>
          <p:cNvPicPr/>
          <p:nvPr/>
        </p:nvPicPr>
        <p:blipFill>
          <a:blip r:embed="rId1"/>
          <a:stretch/>
        </p:blipFill>
        <p:spPr>
          <a:xfrm>
            <a:off x="7391520" y="5486400"/>
            <a:ext cx="9223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8:38:24Z</dcterms:created>
  <dc:creator>elpalme</dc:creator>
  <dc:description/>
  <dc:language>en-US</dc:language>
  <cp:lastModifiedBy>elpalme</cp:lastModifiedBy>
  <dcterms:modified xsi:type="dcterms:W3CDTF">2010-08-27T20:43:59Z</dcterms:modified>
  <cp:revision>9</cp:revision>
  <dc:subject/>
  <dc:title>Teaching Biology at the Appropriate Cognitive Level</dc:title>
</cp:coreProperties>
</file>